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34CB-6F14-4CF4-9D61-F53CF531EB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514-ED0C-4826-BF44-4C28C38E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CAD-07D3-4C74-8ECB-7A30B4F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EFC-1B52-4435-81AB-974A7515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79E-7C4D-4A1E-895E-D005E86E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F2C-367B-4A9A-B1FF-AB51827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D3C-D41F-4FB1-A8BC-EC6A8D2D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401-9D83-43C9-9CA0-BAF541A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4BA-42EE-456E-B3AC-CBEBE4A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A4D-2A44-4601-8A7F-42C6A1B5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7B3-87B6-4A76-A1CD-A06DB20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144-CBCF-400C-9B06-6AA7E81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491-7226-4188-88D3-6B6BF81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9B2-9DEE-41E3-989D-763C6EBB7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53006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00200" y="7621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分解质因数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11280" y="4292640"/>
            <a:ext cx="7848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合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隶书"/>
              </a:rPr>
              <a:t>=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质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隶书"/>
              </a:rPr>
              <a:t>×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质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×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隶书"/>
              </a:rPr>
              <a:t>……×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质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33520" y="260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西师版五年级数学上册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77724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＝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  ×  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因数吗？都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质因数吗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33720" y="1522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371628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都是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因数；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因数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是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因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650232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都是质因数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合数都能分解质因数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任何合数的质因数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质因数、合数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成自然数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解质因数是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解质因数是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×2×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219640" y="148428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213372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2708280"/>
            <a:ext cx="79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3357720"/>
            <a:ext cx="79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3933720"/>
            <a:ext cx="79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4508640"/>
            <a:ext cx="79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判断下面各题，对的画“√”，错的画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并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0120"/>
            <a:ext cx="81360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解质因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×5×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解质因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×3×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解质因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×3×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解质因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×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（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164360" y="1844640"/>
            <a:ext cx="5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1640" y="2852640"/>
            <a:ext cx="5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3789360"/>
            <a:ext cx="5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8720" y="4797360"/>
            <a:ext cx="5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16000" y="1268280"/>
            <a:ext cx="691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各算式哪些是分解质因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不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=2 X 17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=4 X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=2 X 2 X 3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=3 X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=1 X2 X 3 X 3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X 5=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16000" y="43974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⑤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是分解质因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式中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1,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不是质数，也就不是质因数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式中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9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都是合数；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不是分解质因数。分解质因数要把合数写在等号的左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907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短除法分解质因数的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5640" y="162864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1628640"/>
            <a:ext cx="574920" cy="431640"/>
            <a:chOff x="2411280" y="1628640"/>
            <a:chExt cx="574920" cy="431640"/>
          </a:xfrm>
        </p:grpSpPr>
        <p:sp>
          <p:nvSpPr>
            <p:cNvPr id="190" name=""/>
            <p:cNvSpPr/>
            <p:nvPr/>
          </p:nvSpPr>
          <p:spPr>
            <a:xfrm>
              <a:off x="2411280" y="162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1280" y="2060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08000" y="1676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1844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22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质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98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是质数为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852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852640"/>
            <a:ext cx="863640" cy="431640"/>
            <a:chOff x="2340000" y="2852640"/>
            <a:chExt cx="863640" cy="431640"/>
          </a:xfrm>
        </p:grpSpPr>
        <p:sp>
          <p:nvSpPr>
            <p:cNvPr id="199" name=""/>
            <p:cNvSpPr/>
            <p:nvPr/>
          </p:nvSpPr>
          <p:spPr>
            <a:xfrm>
              <a:off x="2340000" y="2852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40000" y="3284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627280" y="3284640"/>
            <a:ext cx="574560" cy="431640"/>
            <a:chOff x="2627280" y="3284640"/>
            <a:chExt cx="574560" cy="431640"/>
          </a:xfrm>
        </p:grpSpPr>
        <p:sp>
          <p:nvSpPr>
            <p:cNvPr id="202" name=""/>
            <p:cNvSpPr/>
            <p:nvPr/>
          </p:nvSpPr>
          <p:spPr>
            <a:xfrm>
              <a:off x="2627280" y="3284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27280" y="3716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484360" y="3284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37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3645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是质数为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5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是合数还要继续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386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45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340000" y="4941720"/>
            <a:ext cx="863640" cy="431640"/>
            <a:chOff x="2340000" y="4941720"/>
            <a:chExt cx="863640" cy="431640"/>
          </a:xfrm>
        </p:grpSpPr>
        <p:sp>
          <p:nvSpPr>
            <p:cNvPr id="215" name=""/>
            <p:cNvSpPr/>
            <p:nvPr/>
          </p:nvSpPr>
          <p:spPr>
            <a:xfrm>
              <a:off x="2340000" y="49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40000" y="5373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195640" y="4508640"/>
            <a:ext cx="1007640" cy="432720"/>
            <a:chOff x="2195640" y="4508640"/>
            <a:chExt cx="1007640" cy="432720"/>
          </a:xfrm>
        </p:grpSpPr>
        <p:sp>
          <p:nvSpPr>
            <p:cNvPr id="218" name=""/>
            <p:cNvSpPr/>
            <p:nvPr/>
          </p:nvSpPr>
          <p:spPr>
            <a:xfrm>
              <a:off x="2195640" y="4508640"/>
              <a:ext cx="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5640" y="49413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627280" y="5373720"/>
            <a:ext cx="576360" cy="431640"/>
            <a:chOff x="2627280" y="5373720"/>
            <a:chExt cx="576360" cy="431640"/>
          </a:xfrm>
        </p:grpSpPr>
        <p:sp>
          <p:nvSpPr>
            <p:cNvPr id="221" name=""/>
            <p:cNvSpPr/>
            <p:nvPr/>
          </p:nvSpPr>
          <p:spPr>
            <a:xfrm>
              <a:off x="2627280" y="5373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27280" y="580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4800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5589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合数继续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537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合数继续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5734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是质数为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11280" y="213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2900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332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242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6=2×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414972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8=2×2×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45086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494172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537372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6156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60=2×2×3×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35280" y="1700280"/>
            <a:ext cx="52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质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755720" y="292428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3357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9080" y="284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6720" y="2886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236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840" y="4437000"/>
            <a:ext cx="21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524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524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8600" y="284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6240" y="2886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39760" y="3341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27520" y="335268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27520" y="3860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2360" y="384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14720" y="5445000"/>
            <a:ext cx="27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341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3412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87840" y="2844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75120" y="2886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5308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308720" y="3357720"/>
            <a:ext cx="990720" cy="507960"/>
            <a:chOff x="7308720" y="3357720"/>
            <a:chExt cx="990720" cy="507960"/>
          </a:xfrm>
        </p:grpSpPr>
        <p:sp>
          <p:nvSpPr>
            <p:cNvPr id="262" name=""/>
            <p:cNvSpPr/>
            <p:nvPr/>
          </p:nvSpPr>
          <p:spPr>
            <a:xfrm>
              <a:off x="7331040" y="335772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08720" y="3861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91120" y="334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616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90920" y="4365720"/>
            <a:ext cx="24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7280" y="333360"/>
            <a:ext cx="1566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63640" y="177336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质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557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572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980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9708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76480" y="33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35280" y="3357720"/>
            <a:ext cx="990360" cy="380880"/>
            <a:chOff x="1835280" y="3357720"/>
            <a:chExt cx="990360" cy="380880"/>
          </a:xfrm>
        </p:grpSpPr>
        <p:sp>
          <p:nvSpPr>
            <p:cNvPr id="276" name=""/>
            <p:cNvSpPr/>
            <p:nvPr/>
          </p:nvSpPr>
          <p:spPr>
            <a:xfrm>
              <a:off x="1835280" y="3357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35280" y="3718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13080" y="33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2580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6240" y="458136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3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0" y="2924280"/>
            <a:ext cx="1008000" cy="380880"/>
            <a:chOff x="4572000" y="2924280"/>
            <a:chExt cx="1008000" cy="380880"/>
          </a:xfrm>
        </p:grpSpPr>
        <p:sp>
          <p:nvSpPr>
            <p:cNvPr id="282" name=""/>
            <p:cNvSpPr/>
            <p:nvPr/>
          </p:nvSpPr>
          <p:spPr>
            <a:xfrm>
              <a:off x="4572000" y="2924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0" y="32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7289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660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40120" y="3309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716360" y="3357720"/>
            <a:ext cx="990720" cy="380880"/>
            <a:chOff x="4716360" y="3357720"/>
            <a:chExt cx="990720" cy="380880"/>
          </a:xfrm>
        </p:grpSpPr>
        <p:sp>
          <p:nvSpPr>
            <p:cNvPr id="288" name=""/>
            <p:cNvSpPr/>
            <p:nvPr/>
          </p:nvSpPr>
          <p:spPr>
            <a:xfrm>
              <a:off x="4716360" y="3357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16360" y="3718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35780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8484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75880" y="537372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5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164360" y="2997360"/>
            <a:ext cx="990720" cy="380880"/>
            <a:chOff x="7164360" y="2997360"/>
            <a:chExt cx="990720" cy="380880"/>
          </a:xfrm>
        </p:grpSpPr>
        <p:sp>
          <p:nvSpPr>
            <p:cNvPr id="294" name=""/>
            <p:cNvSpPr/>
            <p:nvPr/>
          </p:nvSpPr>
          <p:spPr>
            <a:xfrm>
              <a:off x="7194600" y="2997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64360" y="33782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288200" y="2895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548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10520" y="3284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308720" y="3429000"/>
            <a:ext cx="1030320" cy="380880"/>
            <a:chOff x="7308720" y="3429000"/>
            <a:chExt cx="1030320" cy="380880"/>
          </a:xfrm>
        </p:grpSpPr>
        <p:sp>
          <p:nvSpPr>
            <p:cNvPr id="300" name=""/>
            <p:cNvSpPr/>
            <p:nvPr/>
          </p:nvSpPr>
          <p:spPr>
            <a:xfrm>
              <a:off x="733104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08720" y="38098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891480" y="33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81800" y="378936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64280" y="43657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3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3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333360"/>
            <a:ext cx="163836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175280" y="1844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有没有简便的分解质因数的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3645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用短除法的方法分解质因数是怎样除的？除数必须是什么数？必须除到最后的商是什么数为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09680" y="228600"/>
            <a:ext cx="1524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思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0" name=""/>
          <p:cNvSpPr/>
          <p:nvPr/>
        </p:nvSpPr>
        <p:spPr>
          <a:xfrm>
            <a:off x="4514760" y="270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抓住数的特点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70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利用乘法口诀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95280" y="1628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把一个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数分解质因数，先用一个能整除这个合数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数去除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（一般从最小的开始），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如果得出的商是质数，就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和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写成相乘的形式；如果得出的商是合数，就继续除下去，直到得出的商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数为止。然后把各个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和最后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写成连乘的形式。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50920" y="21924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反思：分解质因数的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56000" y="1700280"/>
            <a:ext cx="57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84360" y="3500280"/>
            <a:ext cx="576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51640" y="2637000"/>
            <a:ext cx="57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205000"/>
            <a:ext cx="576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11640" y="2637000"/>
            <a:ext cx="576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429000"/>
            <a:ext cx="576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3933720"/>
            <a:ext cx="576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709720" y="23760"/>
            <a:ext cx="2438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一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55640" y="11970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各式是分解质因数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=2×4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=2+3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=3×5×1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=2×2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3284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每行中哪个数与其他的数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    16    18     19      22       32      34  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 5      7       9       11      13       17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    18     27     45      51      53       63    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 12     18     24      30      36      42     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3789360"/>
            <a:ext cx="720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4292640"/>
            <a:ext cx="720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40720" y="5302080"/>
            <a:ext cx="720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35640" y="4797360"/>
            <a:ext cx="7905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37480" y="99072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数按因数的个数分为几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5640" y="161928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数按因数的个数分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质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合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2720" y="2286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．什么数叫质数？什么数叫合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19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除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本身，不再有别的因数，这个数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质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（也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素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886200"/>
            <a:ext cx="79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除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本身，还有别的因数，这个数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合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8006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习乘法算式中各种数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7200" y="5486400"/>
            <a:ext cx="33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数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X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因数 ＝  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1187280" y="1397160"/>
          <a:ext cx="6697800" cy="4047840"/>
        </p:xfrm>
        <a:graphic>
          <a:graphicData uri="http://schemas.openxmlformats.org/drawingml/2006/table">
            <a:tbl>
              <a:tblPr/>
              <a:tblGrid>
                <a:gridCol w="1685880"/>
                <a:gridCol w="2779920"/>
                <a:gridCol w="2232000"/>
              </a:tblGrid>
              <a:tr h="13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所有因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因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042920" y="549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2852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2997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16360" y="4149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96000" y="4221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58920" y="1197000"/>
            <a:ext cx="7129440" cy="439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观看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403200"/>
            <a:ext cx="669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各数哪些是质数？哪些是合数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     13       19        27     58      87     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lain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7         57           92        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2370240"/>
            <a:ext cx="70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比一比，看谁找得快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71628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72420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7080" y="3724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6440" y="4508640"/>
            <a:ext cx="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8360" y="4516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520" y="450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00440" y="372420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52440" y="3716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76440" y="4516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8360" y="4516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7520" y="450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65112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质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516560"/>
            <a:ext cx="13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合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05160" y="3716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295128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11280" y="8557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×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628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=  3×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42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= 4×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3141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= 2×2×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78936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= 4×2×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445000"/>
            <a:ext cx="8137440" cy="703440"/>
          </a:xfrm>
          <a:prstGeom prst="rect">
            <a:avLst/>
          </a:prstGeom>
          <a:solidFill>
            <a:srgbClr val="66ff99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合数＝质数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质数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……×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质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1123920"/>
            <a:ext cx="3097440" cy="1368360"/>
          </a:xfrm>
          <a:prstGeom prst="wedgeEllipseCallout">
            <a:avLst>
              <a:gd name="adj1" fmla="val -56254"/>
              <a:gd name="adj2" fmla="val 88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个算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众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333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成比它本身小的几个自然数相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= 2×2×2×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否把下面的合数写成几个质数相乘的形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（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（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581280"/>
            <a:ext cx="854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（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（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53000"/>
            <a:ext cx="883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＝（   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）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67640" y="6137280"/>
            <a:ext cx="1655640" cy="72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1557360"/>
            <a:ext cx="6480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         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276640"/>
            <a:ext cx="6480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    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573360"/>
            <a:ext cx="6480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      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4292640"/>
            <a:ext cx="75614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           5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869000"/>
            <a:ext cx="75614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           2                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14400" y="160020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　每个合数都可以写成几个质数相乘的形式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这几个质数叫做这个合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质因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8200" y="4173120"/>
            <a:ext cx="73422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　   把一个合数用质因数相乘的形式表示出来叫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分解质因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228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895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质因数既是因数，又是质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164360" y="5805360"/>
            <a:ext cx="1655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371600"/>
            <a:ext cx="93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写成哪几个质数相乘的形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85800" y="240516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149120" y="2997360"/>
            <a:ext cx="6411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63720" y="2997360"/>
            <a:ext cx="73332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4640" y="53704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=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5240" y="2205000"/>
            <a:ext cx="8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557320" y="2852640"/>
            <a:ext cx="368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99200" y="2852640"/>
            <a:ext cx="4586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54400" y="3932280"/>
            <a:ext cx="368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51560" y="4003560"/>
            <a:ext cx="4586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75560" y="4005360"/>
            <a:ext cx="458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3933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3357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450864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450864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6880" y="393372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06520" y="3933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9240" y="3357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83240" y="3357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10160" y="450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34160" y="450864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450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6520" y="544500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 =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81080" y="30492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例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352680" y="838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32200" y="149868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46600" y="14986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77600" y="2587680"/>
            <a:ext cx="28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54320" y="258588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2060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8680" y="32097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9560" y="2031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201132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7600" y="3220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3276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0384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 2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256536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427640" y="256536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235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352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276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81080" y="152280"/>
            <a:ext cx="1676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例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4876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：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质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6920" y="1844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18288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质因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9973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8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971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质因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184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×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997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×2 ×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184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40766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4114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质因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4076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×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2971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02:11Z</dcterms:created>
  <dc:creator>Administrator</dc:creator>
  <dc:description/>
  <cp:keywords/>
  <dc:language>en-US</dc:language>
  <cp:lastModifiedBy>微软用户</cp:lastModifiedBy>
  <dcterms:modified xsi:type="dcterms:W3CDTF">2013-11-24T06:42:48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